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561188"/>
        <c:axId val="14701015"/>
      </c:barChart>
      <c:catAx>
        <c:axId val="705611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01015"/>
        <c:crosses val="autoZero"/>
        <c:auto val="1"/>
        <c:lblAlgn val="ctr"/>
        <c:lblOffset val="100"/>
        <c:noMultiLvlLbl val="0"/>
      </c:catAx>
      <c:valAx>
        <c:axId val="147010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611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5BAB-CC42-4CD7-84E1-F9003EA9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B78D-A90C-4A1B-A2F0-B5D143CB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2746-63E9-4427-8A5E-3145BE65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D607-E68A-4564-B4EF-59B98548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D625-BBAA-4B7A-958C-8BF9E7CE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942C-51C3-4B79-A3E2-AEB02CA9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1E2F-960A-4EB4-A717-83006821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F270-715E-4E41-8A86-ABA267FC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4422-DC94-4B86-9702-2E2AAB4A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D509-254D-47D0-A6B3-347E5F62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BC87-1344-4F5B-8154-14C00E6E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55CA-7B23-400C-99AD-EE279D76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BB73D-8233-41AB-B269-A2F166535E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