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7288623"/>
        <c:axId val="43142829"/>
      </c:barChart>
      <c:catAx>
        <c:axId val="5728862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142829"/>
        <c:crosses val="autoZero"/>
        <c:auto val="1"/>
        <c:lblAlgn val="ctr"/>
        <c:lblOffset val="100"/>
        <c:noMultiLvlLbl val="0"/>
      </c:catAx>
      <c:valAx>
        <c:axId val="4314282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28862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4C20-5AFD-4AE8-906A-59B72E316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38FB-F3CC-44DD-B67E-EF9DBDAF7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CD00-89EB-429F-AB1E-A80DFDD19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F2BD-62AA-40DE-95CC-AAF7F9959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7BE5-A7DC-4D72-A6D5-0FCBB4D5E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5F97-A01E-41F6-853B-2F9964E3D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C2A0-B423-4685-85DA-7BD6AAE4D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F634-F35E-4D27-B8D7-E8A6A7845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B788-A2CE-422D-86B1-CA3E5082D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87C7-5606-4690-9FCD-F6FBFA4E3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BF30-765F-48CD-824B-15DE67D25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3CC4-1A7B-491A-A541-05084C4E9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F39610-61FF-4901-B5B0-E0885AE9A3F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