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19952"/>
        <c:axId val="64942589"/>
      </c:barChart>
      <c:catAx>
        <c:axId val="66919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42589"/>
        <c:crosses val="autoZero"/>
        <c:auto val="1"/>
        <c:lblAlgn val="ctr"/>
        <c:lblOffset val="100"/>
        <c:noMultiLvlLbl val="0"/>
      </c:catAx>
      <c:valAx>
        <c:axId val="64942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19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A5A-F754-4899-86B8-73355A9E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F4E7-DEB2-4BA2-A65C-1AA2FD04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26A-FA33-42EF-9C5A-378B3C0B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75F-8C34-4B4F-88D2-D3EAD9CB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108A-D00A-4C75-BFDF-716950ED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364-2CD9-4DD9-89FE-B15972CF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BB8-ED1B-452C-B59A-67800FF5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011B-D3F4-4D3B-B53A-F7F9C5EF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847-4C91-4A04-ADC5-B5832924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B87-5C7E-4AE9-B9F0-F1A9A7E0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CC2-5F73-4246-A024-EA31B335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406-118A-4A32-8E42-4CF549DF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B8D8C-A801-4198-91C3-CA1589831D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