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45791"/>
        <c:axId val="38776037"/>
      </c:barChart>
      <c:catAx>
        <c:axId val="51945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6037"/>
        <c:crosses val="autoZero"/>
        <c:auto val="1"/>
        <c:lblAlgn val="ctr"/>
        <c:lblOffset val="100"/>
        <c:noMultiLvlLbl val="0"/>
      </c:catAx>
      <c:valAx>
        <c:axId val="38776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45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3A2-D23E-4F43-A07F-E7C36540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339-BFF9-4C6D-A712-9974AD26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614-3D14-4E7A-85F4-F0EDECB8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6DA-9341-416D-B312-683E702F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B52-DEDC-476D-82C5-1D859FB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7A5-4CF0-4FCF-AE4F-56AC018F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CFC-4152-4136-9827-1ECB53F1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7C8-F8A9-4528-BC4C-292C17B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226-B30F-4066-B461-CAB28CA1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7C3-4E6A-4100-A8EA-E6F03825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160-43E9-4982-AE22-AE7ADBB5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CE9-6F44-4ACB-8192-12B091DE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E9CB-8DF6-403C-A9F8-CC64970A3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