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57894"/>
        <c:axId val="42101167"/>
      </c:barChart>
      <c:catAx>
        <c:axId val="45257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101167"/>
        <c:crosses val="autoZero"/>
        <c:auto val="1"/>
        <c:lblAlgn val="ctr"/>
        <c:lblOffset val="100"/>
        <c:noMultiLvlLbl val="0"/>
      </c:catAx>
      <c:valAx>
        <c:axId val="42101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57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543-B336-4D0C-B4D0-D31DE894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E998-F398-478F-A734-99C35EE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8EFB-C95F-476D-9B3A-AFC2D1BFA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83F-8B51-4FF0-87E4-AD901C6C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3EE-0701-4634-855E-CBEE4282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622-3569-4C8A-B400-C61DC479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69B-8C55-4345-BCF8-873385B34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0EA-FB30-420E-8DE4-E468D0E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B49-F6D5-4A37-904F-5D82FA2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716C-6360-4827-932E-D56A2C37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011-18D9-41DF-AC46-DE353EE2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A06-22A0-40FD-974A-C7FB8AB9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535EA-979D-4225-8B17-B35CED7CF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