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405046"/>
        <c:axId val="60952855"/>
      </c:barChart>
      <c:catAx>
        <c:axId val="814050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52855"/>
        <c:crosses val="autoZero"/>
        <c:auto val="1"/>
        <c:lblAlgn val="ctr"/>
        <c:lblOffset val="100"/>
        <c:noMultiLvlLbl val="0"/>
      </c:catAx>
      <c:valAx>
        <c:axId val="609528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050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1584-A8C9-49DC-A937-388BCA47C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DB19-4F14-4B54-81BF-FAF3EC72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27FC-6EFE-4223-BD0E-79F5646AA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E2A4-E8B1-493A-A6B9-F725D2E5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E646-7B4E-4A0B-991F-1F001C16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50D4-DC0A-4D5F-97A3-F85904CC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3ECC-F8D1-4A9D-8113-1FC802CA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891E-375F-43B7-B19B-450CA8A4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6CF4-2861-4C8C-ADF4-093F1F8E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604B-4265-4758-949D-3365CAF5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B2C5-8C2F-458B-9428-94DA1B85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5CA9-3335-4D4C-A399-B2796A42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9D90F-DC40-4831-8001-B7F4DF4C1B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