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51535"/>
        <c:axId val="28324281"/>
      </c:barChart>
      <c:catAx>
        <c:axId val="80551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24281"/>
        <c:crosses val="autoZero"/>
        <c:auto val="1"/>
        <c:lblAlgn val="ctr"/>
        <c:lblOffset val="100"/>
        <c:noMultiLvlLbl val="0"/>
      </c:catAx>
      <c:valAx>
        <c:axId val="28324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51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7DE-A8B9-4DD3-95BD-CE4568C7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8F9-95E5-46DF-8D54-675D66E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ED7-512E-4E9D-B37E-A5D8C065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A0C-46CB-4F0D-8D20-9F42C473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920-3B06-49EA-B3F0-6C3E303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0A3-CC1C-45C2-9BF6-833DDE4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904-649A-46A6-BF71-B8210EC9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50F-2E3E-40E1-8536-F1ADD2DC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B7C-94DD-4222-84AA-1B418ABB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ABA-1EC0-4E40-BD77-8D763EB9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48D-D333-4908-AE86-0C249494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C92-A47E-491F-AA2A-BCD1B476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8366C-519C-40CE-B728-99C2286C63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