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75039"/>
        <c:axId val="86409735"/>
      </c:barChart>
      <c:catAx>
        <c:axId val="83375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09735"/>
        <c:crosses val="autoZero"/>
        <c:auto val="1"/>
        <c:lblAlgn val="ctr"/>
        <c:lblOffset val="100"/>
        <c:noMultiLvlLbl val="0"/>
      </c:catAx>
      <c:valAx>
        <c:axId val="86409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75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6D4-7A0A-423E-9DD5-27ECC435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5E5-BAEE-4DEA-8226-FFF3EF09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A56-2F9C-486E-BE17-7428D5ED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D41-25BA-4A4E-BF17-DA0D4DD2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17E-4A0C-4CAB-BBA6-02A268B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05D-7050-4D62-957B-274EDD8F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D41-C96C-4CA9-8D46-E7BCA60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C9D-1D67-4628-92B5-1E922026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37D-0344-4DD3-9F0E-5DE5A3F3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6BF-6DA8-4B68-9EC8-CC956F5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627-28FA-4DB1-AD97-BCB8857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21F-0CB0-48AB-B897-F533CBD5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A5486-991F-4E92-9CE3-88EC800636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