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917882"/>
        <c:axId val="48379421"/>
      </c:barChart>
      <c:catAx>
        <c:axId val="609178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379421"/>
        <c:crosses val="autoZero"/>
        <c:auto val="1"/>
        <c:lblAlgn val="ctr"/>
        <c:lblOffset val="100"/>
        <c:noMultiLvlLbl val="0"/>
      </c:catAx>
      <c:valAx>
        <c:axId val="483794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9178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5229-CF41-4AD2-8D35-DD4850104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7E5B-C851-4F29-873F-87F38585F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C0F8-C09D-426F-8D70-2E1EC305C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A915-D534-474F-9862-87C5CF82D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C0A4-CEA1-4602-9D64-7795F4593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556B-0699-4139-B77E-079AA3DDB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ACEB-F356-44B3-9F8B-B7176A706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C693-C287-402E-8755-B4D386B7D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C86F-C1BE-409B-850F-28902FAA6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BCC9-96F5-4A25-A678-6A24A7A30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23F1-26A7-4EF4-8C7A-631DE28C0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3258-3933-4563-87B4-0FCC21EB4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F523EE-80E7-48C1-97F1-EA4305D43E6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