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524718"/>
        <c:axId val="59230209"/>
      </c:barChart>
      <c:catAx>
        <c:axId val="615247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30209"/>
        <c:crosses val="autoZero"/>
        <c:auto val="1"/>
        <c:lblAlgn val="ctr"/>
        <c:lblOffset val="100"/>
        <c:noMultiLvlLbl val="0"/>
      </c:catAx>
      <c:valAx>
        <c:axId val="592302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247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3E3D-FBD1-44C8-8426-1B30A0E2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0C0D-1624-4D0D-946F-0EB16902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2812-3BB5-4478-9D5D-5E99CA90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6E83-1ACD-4F71-931B-34E01C22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4216-1101-4E2F-BA2F-38D478F5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6612-76C6-4C13-86B5-736882FC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D05D-0E24-4392-B0B1-EAB1B908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4902-5C6E-4899-BCD8-4C86894B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F772-F17D-4430-AF11-2E613603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1ACF-6990-4C77-8186-6765DAE5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2407-36B1-4518-B7B0-61FD9A91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5F07-6BFC-48E1-B4A3-19DF7127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E381B-3EEE-44E8-BC0F-3746FA21AA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