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2940320"/>
        <c:axId val="58525936"/>
      </c:barChart>
      <c:catAx>
        <c:axId val="8294032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8525936"/>
        <c:crosses val="autoZero"/>
        <c:auto val="1"/>
        <c:lblAlgn val="ctr"/>
        <c:lblOffset val="100"/>
        <c:noMultiLvlLbl val="0"/>
      </c:catAx>
      <c:valAx>
        <c:axId val="5852593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294032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CC818-B9FB-46CD-B206-A3D2F382F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BF41C-3BBD-4FE1-9F12-86C0764B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6A59C-A962-42FA-A46F-C28E5EE4FF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F1A0C-1944-4CE0-A7FC-0F92875A1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DC9-B489-4203-8419-D759DD3A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7860F-95CF-49D7-9623-82FCA1A2A7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12670-5F86-4FF9-A66B-C2E3C27BB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5DBFD-3B46-48E9-9B67-1EFED1B9A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ECF1D-C7B6-4E88-93AA-ECE2CD722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685A-FAD2-4F5B-9396-13162434D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9DCD5-AD64-41D3-9381-E981D1800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6550D-3C3F-4E88-B498-968081597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9B3C0-865C-4962-A436-0F6C84A3BEE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