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33793"/>
        <c:axId val="54471485"/>
      </c:barChart>
      <c:catAx>
        <c:axId val="73433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71485"/>
        <c:crosses val="autoZero"/>
        <c:auto val="1"/>
        <c:lblAlgn val="ctr"/>
        <c:lblOffset val="100"/>
        <c:noMultiLvlLbl val="0"/>
      </c:catAx>
      <c:valAx>
        <c:axId val="54471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3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D21-C2E1-4A86-A2EC-1AF2DFE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921-7818-4A15-B4B7-D0790FD6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C40-84C1-4059-B9CE-BE5DFE56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1F9-98C6-4E08-9BC4-64D99971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D94-C76D-4490-A08D-EBB6BDA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335-BF1F-4B80-BB93-9C5F8D5F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975-D415-4F7E-99C8-30B42C1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2F5-17BC-460B-8367-11CEDA8E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32E-A679-44D9-B159-28A5321D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45-4C11-47D8-B438-294CAE1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EA-27B0-4AFA-821A-3217030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9B1-BF42-45F6-AEBA-84D4A20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53CF2-3BB9-41BF-B358-637638B99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