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5234"/>
        <c:axId val="75094271"/>
      </c:barChart>
      <c:catAx>
        <c:axId val="3215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94271"/>
        <c:crosses val="autoZero"/>
        <c:auto val="1"/>
        <c:lblAlgn val="ctr"/>
        <c:lblOffset val="100"/>
        <c:noMultiLvlLbl val="0"/>
      </c:catAx>
      <c:valAx>
        <c:axId val="75094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5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35AB-177D-4376-8ABF-D85854F1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902-4F4A-4820-B11A-ECDE7FE9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426-63A1-46FD-846B-6C69F9D8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CA2-6B17-4A15-86FA-298CC05A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410-4148-4A0F-B88F-16E2909E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0B7-C229-4412-919C-61E15FE3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A95-7795-48AF-8752-1DD227AC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515-437C-4BB0-99B6-40C9540E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C52E-E708-43B4-893E-1E70B84F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AB27-0A10-4C3A-9BCE-5B11C724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A20-9E32-4591-9F23-44DE95C1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900-4F34-4B9C-8923-BCB185CC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BA76A-A426-487F-897F-E71CB65857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