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22570"/>
        <c:axId val="43830407"/>
      </c:barChart>
      <c:catAx>
        <c:axId val="81225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30407"/>
        <c:crosses val="autoZero"/>
        <c:auto val="1"/>
        <c:lblAlgn val="ctr"/>
        <c:lblOffset val="100"/>
        <c:noMultiLvlLbl val="0"/>
      </c:catAx>
      <c:valAx>
        <c:axId val="438304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25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D2BE-CCC4-4DEB-A996-F86DB397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71C3-AE4D-45AB-A42C-603EDEDB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D2A8-0899-4B84-8EF2-8B153C5D8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3222-CA22-405C-BA8C-E517E4806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062F-02BA-4A7A-9B45-CAA5BA8A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7500-473C-4109-928B-7429A4CC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DD5A-F78D-4292-830F-C012F00F6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3F21-5F6A-46BF-933F-3ACFB5BF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71B4-14E8-43C2-9BD1-22817A27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F392-9E56-440F-A9FF-0A7B6F74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8895-7099-4A3F-9043-86BC6CFC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366A-B3A2-4EFC-9412-B6BFEEF2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4778C-45AC-4F93-B310-31E3AA1547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