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31127"/>
        <c:axId val="9709402"/>
      </c:barChart>
      <c:catAx>
        <c:axId val="42031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402"/>
        <c:crosses val="autoZero"/>
        <c:auto val="1"/>
        <c:lblAlgn val="ctr"/>
        <c:lblOffset val="100"/>
        <c:noMultiLvlLbl val="0"/>
      </c:catAx>
      <c:valAx>
        <c:axId val="9709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1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550-FC27-47DC-A585-01F9B3B2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C2B-94C6-44BB-87CD-E61E844D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0AF-D1C4-40FF-AA87-ED8C8DC1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71F-47CB-4A5E-BCCA-7743C787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BDB-5221-4511-94B8-C3B68E91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3AF-9D89-43D9-8CC0-C8053BE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332-FF97-439B-9D18-1E2AB42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9C8-F098-44E2-817C-BF3A4158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E9B-0DCE-476B-B2C3-D6966AAD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645-F03E-4327-85ED-292282D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6E7-1154-4817-8FE2-E58E418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ED8-5DB9-40FB-AA98-24529E4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053F7-E74E-4050-81F9-E6BBA43339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