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14592"/>
        <c:axId val="70390691"/>
      </c:barChart>
      <c:catAx>
        <c:axId val="35614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90691"/>
        <c:crosses val="autoZero"/>
        <c:auto val="1"/>
        <c:lblAlgn val="ctr"/>
        <c:lblOffset val="100"/>
        <c:noMultiLvlLbl val="0"/>
      </c:catAx>
      <c:valAx>
        <c:axId val="703906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14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1C50-42AD-4C20-A0C8-A4E76F68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FBAA-42DB-4564-B95F-4FE4CE5D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48E-5430-43DA-9E49-58F25E7F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0B3-51C2-45BE-A5E7-F20A6DFB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AF1B-30DE-44E1-9D72-5BF4EFE4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F1A-7F10-418A-832C-DA0D5883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676E-CB19-42FB-8D1A-B98DBE26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B5A-B2C2-4B4B-A4BC-04260856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E137-D968-4BB4-A0D5-EC67BBCE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AB5-1A38-4F4A-9402-5C2EF750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80C-4C5D-44AF-B35C-D7A15785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62A-99AE-44EC-B7F2-A902063D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2BCC9-AEC7-4616-BD34-9C5FCAE56A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