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64298"/>
        <c:axId val="63837694"/>
      </c:barChart>
      <c:catAx>
        <c:axId val="793642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37694"/>
        <c:crosses val="autoZero"/>
        <c:auto val="1"/>
        <c:lblAlgn val="ctr"/>
        <c:lblOffset val="100"/>
        <c:noMultiLvlLbl val="0"/>
      </c:catAx>
      <c:valAx>
        <c:axId val="63837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642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417-1386-4A58-B40A-F05B9FE1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7AE-B7E8-4DFC-AF82-328AD1D1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5B12-764B-4FA3-8DA4-91EE0CA8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A30-0CDF-4D34-A39F-D91E0FAD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8656-35B3-4503-82F3-D1788367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4B5B-9177-4AD6-84F2-4CD84EB2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B46-7FF7-4BCF-8970-2289D940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20C-E2CE-4F35-A502-F1DFD550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827E-354D-4354-AA5D-1E733AE6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54DA-0ECB-41F7-8EFC-F9456199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761-856B-482B-8542-1231A7E2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FC0B-9104-49B5-BD09-D03B9D14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06C05-86DB-4C95-BB55-B87CCF450C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