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26407"/>
        <c:axId val="37511715"/>
      </c:barChart>
      <c:catAx>
        <c:axId val="58326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11715"/>
        <c:crosses val="autoZero"/>
        <c:auto val="1"/>
        <c:lblAlgn val="ctr"/>
        <c:lblOffset val="100"/>
        <c:noMultiLvlLbl val="0"/>
      </c:catAx>
      <c:valAx>
        <c:axId val="37511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6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ADB-E7EA-4251-B4FD-B63292E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5F2-DB45-45CB-B4E6-3868773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34E-F652-4CAC-A499-E4259B20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0CE-D8F3-40BF-B2EB-CC9442C7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391-68D6-4197-A64B-248C0F4A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DAA-9F84-4D6B-BF1D-FC56693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8A6-2E82-48A4-A6D2-F437606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722-74A3-4382-8076-2F40E91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220-7884-4DCA-8EAE-C331411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AAC-9E2C-425D-ACFB-EFDB72D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3AC-9B96-4FB3-B462-A5A39F6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2ED-4AA0-4DA1-B3D0-BCFCCC9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F5E8-5DB9-49C2-95D4-E667BEDB8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