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60636"/>
        <c:axId val="38113892"/>
      </c:barChart>
      <c:catAx>
        <c:axId val="643606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13892"/>
        <c:crosses val="autoZero"/>
        <c:auto val="1"/>
        <c:lblAlgn val="ctr"/>
        <c:lblOffset val="100"/>
        <c:noMultiLvlLbl val="0"/>
      </c:catAx>
      <c:valAx>
        <c:axId val="381138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606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59F3-667A-4A7F-8324-BAD68868E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CC9-AC3E-4894-9EAB-6E630E6A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6A9-9391-481E-80BF-4505043A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9ED-37DC-426A-AB31-79746328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88E6-23B1-4F4A-86EE-342B6BF6F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CAC-4991-4A3E-9121-EA9FA499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D8D-824D-472A-B2F3-581A3F43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2B7-3B16-48EB-9936-357F9244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2D24-6A09-490C-91E9-F3C94980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BFB8-1652-42D1-97B6-12C4F420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9660-5EDC-4DF9-8263-621F3B1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09BB-301D-4360-8916-81A42EB4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62F3B-0B48-4F3B-B86F-A8868CFE21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