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61"/>
        <c:axId val="71293670"/>
      </c:barChart>
      <c:catAx>
        <c:axId val="225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93670"/>
        <c:crosses val="autoZero"/>
        <c:auto val="1"/>
        <c:lblAlgn val="ctr"/>
        <c:lblOffset val="100"/>
        <c:noMultiLvlLbl val="0"/>
      </c:catAx>
      <c:valAx>
        <c:axId val="71293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BFB-E0E9-44E4-9B2C-1E9C70DF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8B8-FFCF-4F95-BCDC-7CD0008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E2A-0274-43C6-BE09-4647775A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178-F33B-4698-8129-435894BB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8B7-7E67-48CA-9219-7693B7F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97C-3C25-4082-8542-CF6D7075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D00-1A51-4953-B032-F28BCBBE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4C2-BAC4-4209-BB85-7F8350B9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390-7467-4F8A-B8F0-0A1B433C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0C0-07A3-4F8F-92EC-1490A61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DAE-FA47-458E-91FC-4AC794B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226-0A86-4A1F-AA6E-B62583A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1D94-3ECC-43DD-A1FE-C9F5289BF5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