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194863"/>
        <c:axId val="96586206"/>
      </c:barChart>
      <c:catAx>
        <c:axId val="231948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86206"/>
        <c:crosses val="autoZero"/>
        <c:auto val="1"/>
        <c:lblAlgn val="ctr"/>
        <c:lblOffset val="100"/>
        <c:noMultiLvlLbl val="0"/>
      </c:catAx>
      <c:valAx>
        <c:axId val="965862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1948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D815-5645-4139-812B-0C124E144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ADF5-62E5-44FC-B09D-4E763156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4EB-6798-4181-8C82-A0B028B1C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CDAE-E8E8-4CBB-B6DF-C84DD060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AD68-F14F-43B9-8DF8-CFD3CAD6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970-D780-4453-844A-C41C62FE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574B-E749-4B5E-A451-3553359E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0DDC-D16C-4296-B314-857D58C4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14CE-BD02-4903-951C-D3FE948C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F68D-54CB-4077-AC58-E95E3CA7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9A59-8443-4150-84A1-D3D7AAA7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7626-AF9C-415C-A0FB-E2D1AE9EF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EB0B8-CCFE-4ABC-BF29-66941801B8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