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174197"/>
        <c:axId val="16688242"/>
      </c:barChart>
      <c:catAx>
        <c:axId val="291741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688242"/>
        <c:crosses val="autoZero"/>
        <c:auto val="1"/>
        <c:lblAlgn val="ctr"/>
        <c:lblOffset val="100"/>
        <c:noMultiLvlLbl val="0"/>
      </c:catAx>
      <c:valAx>
        <c:axId val="166882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1741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8710-B122-48B7-8BF0-9042883A5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D2A8-CCF1-4125-866D-137E755D7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5BD6-B10A-403C-B989-10B3254EE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94C6-D93F-44C9-A6F3-06118FA7C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9456-9CD2-45C3-8FC4-777E8CA0D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F366-D2E6-43D7-B38D-A354DD6DC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D95E-0CB6-4293-A0BB-1D85DB05E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B4BE-28BF-4A6D-8990-ADA937E77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8B74-09E3-40CA-8828-5CEC545F5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BC05-E035-43E1-B877-52452D0B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B9D2-CC58-454F-9E72-64C8EBE4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FE9E-5084-4B04-AE65-EB36D32C8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01A510-6878-4E71-ABF6-0131A7F13F1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