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26967"/>
        <c:axId val="25455449"/>
      </c:barChart>
      <c:catAx>
        <c:axId val="7126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55449"/>
        <c:crosses val="autoZero"/>
        <c:auto val="1"/>
        <c:lblAlgn val="ctr"/>
        <c:lblOffset val="100"/>
        <c:noMultiLvlLbl val="0"/>
      </c:catAx>
      <c:valAx>
        <c:axId val="254554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6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858-73A1-4C3C-AECB-1D010FD1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F50-88C1-43BE-B01B-EC0CEB96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9BA-2B63-47EE-85FA-4C793A20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7752-B314-47EE-B5B0-352AA072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F1C-083A-446E-8C9E-5276EB1C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153-8D7E-4853-A58C-45B234AE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956-CC59-4B3F-8053-135A1FC8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33B-39C4-495C-B4CB-A3117BF5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18F-0023-419A-A673-F3C74283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C44-DBD8-4D74-B9D3-91AF8D80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9BC-F34F-4DC8-BC00-126B2321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B6A4-3D7A-47E0-A1D9-AB5B7A35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DAD84-CB3F-4C2B-BE3D-E21F81F812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