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063057"/>
        <c:axId val="95979064"/>
      </c:barChart>
      <c:catAx>
        <c:axId val="940630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979064"/>
        <c:crosses val="autoZero"/>
        <c:auto val="1"/>
        <c:lblAlgn val="ctr"/>
        <c:lblOffset val="100"/>
        <c:noMultiLvlLbl val="0"/>
      </c:catAx>
      <c:valAx>
        <c:axId val="959790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0630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51D7-6349-4079-9C2A-857505E3C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20FB-CA14-4378-9A0D-DF762C17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293D-72FD-48E2-9E7E-1F856670B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EF24-C104-43B6-B3C2-71D2150F5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D991-108B-477F-9754-E9913A86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36A6-3BAC-4A65-972D-73E586D3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C7C9-9745-474D-8D14-16082FB0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D5FA-C6CF-43A9-B07A-0F83701C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2AEF-B2AB-45D7-9EA8-011AD1F8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9D14-8C5B-446A-8E56-58BA4BF2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6D23-2567-44F8-A14C-C9E0B4D5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4E93-3889-40DF-9613-7F9C34EA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3E269-7188-4377-82B6-8C245855CD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