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89764"/>
        <c:axId val="43076924"/>
      </c:barChart>
      <c:catAx>
        <c:axId val="38789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76924"/>
        <c:crosses val="autoZero"/>
        <c:auto val="1"/>
        <c:lblAlgn val="ctr"/>
        <c:lblOffset val="100"/>
        <c:noMultiLvlLbl val="0"/>
      </c:catAx>
      <c:valAx>
        <c:axId val="43076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89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2AB-528F-4305-9B73-9D126100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B85-EE28-4A12-BCEE-6B678D5B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2D3-890B-4C5B-876B-E96ECC2B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6D4-4152-42D9-A3B2-208CAF81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9CD-33A5-40D9-A62B-742E779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E9C-E9E2-4F89-BBCB-23169678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FDB-A8B7-4349-86CB-DCEA2CB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671-1978-4388-846A-1BD3E968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F92-888E-4EEE-8330-7FAD51DE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93E-C12D-453A-8D28-A01C4B2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90F-669C-41C9-9004-1476A39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B23-2ABD-4769-83DF-746C5521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0920C-DD63-469E-965E-7AE2E1661C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