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5833"/>
        <c:axId val="36994876"/>
      </c:barChart>
      <c:catAx>
        <c:axId val="22245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94876"/>
        <c:crosses val="autoZero"/>
        <c:auto val="1"/>
        <c:lblAlgn val="ctr"/>
        <c:lblOffset val="100"/>
        <c:noMultiLvlLbl val="0"/>
      </c:catAx>
      <c:valAx>
        <c:axId val="36994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5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152-5D18-454E-8A3F-AD87F174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AE4-BA54-4F91-AEAF-20CB1F5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C3E-2C54-4B8A-A6C8-B057B6DA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34E-31E7-4585-916D-6F2F9CC6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98A-3497-47C5-8D0F-E6239B8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961-2904-4335-A504-7146331A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78F-1673-46B4-BB23-88D8C5D6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AF3-0578-47EB-825E-A15BD1ED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634-61BD-424F-9579-3E03205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840-0AE6-4E8A-AF0E-9CCCF06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AF0-6FB6-44BA-BCCD-781B6A4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B85-0C82-4167-B0E4-A5A326B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58B93-E20E-46F5-BAF8-FF3E30559D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