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28318"/>
        <c:axId val="57195895"/>
      </c:barChart>
      <c:catAx>
        <c:axId val="11428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5895"/>
        <c:crosses val="autoZero"/>
        <c:auto val="1"/>
        <c:lblAlgn val="ctr"/>
        <c:lblOffset val="100"/>
        <c:noMultiLvlLbl val="0"/>
      </c:catAx>
      <c:valAx>
        <c:axId val="571958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28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50A-7E2D-4682-9293-6B29512C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B18-326E-4D18-8F73-E60ECEF5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1676-3F0B-45BB-B703-60AF5439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11D1-719A-4F67-A9CC-53997318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AA3F-0759-4FB5-857A-556FE865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833-15B5-4238-BE87-025C9620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069-859B-4B2F-8A8C-183A73D7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198-0E97-4ECD-A133-E01AF135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99B-F045-4EF7-897D-3EFB6979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4A2E-00C5-4E95-98BF-A231815B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5F9-F3C0-4BF1-B361-C04B4C91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553-0549-4161-B5C5-F9FC745A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A7A01-E0E5-49DC-83F0-7022911B67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