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98255"/>
        <c:axId val="1355550"/>
      </c:barChart>
      <c:catAx>
        <c:axId val="612982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5550"/>
        <c:crosses val="autoZero"/>
        <c:auto val="1"/>
        <c:lblAlgn val="ctr"/>
        <c:lblOffset val="100"/>
        <c:noMultiLvlLbl val="0"/>
      </c:catAx>
      <c:valAx>
        <c:axId val="1355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82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CF7-D91A-44AE-BAF1-2A4957682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019-D2ED-4497-B635-9A5F60EE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94E6-3587-4589-9AFA-9FFFCC44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696-BE82-4CDF-9B07-9543F591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06A-D7D6-47E2-9B4A-BF48974E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383-0FBF-4166-872E-3583F317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EF7E-62FA-4BA5-9A50-D395F48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23E-E2F5-4D1A-8D49-1DFB73D9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F30-870F-48DC-B4A1-5661BC82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02DD-03F1-4609-B0AB-C959CDCB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722-5250-464F-8B8B-F87146C2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9C24-27E1-42C6-A6E7-4197D9B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8947A-4B6C-4B1E-9664-8285E48EF3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