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3724"/>
        <c:axId val="48757628"/>
      </c:barChart>
      <c:catAx>
        <c:axId val="4263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57628"/>
        <c:crosses val="autoZero"/>
        <c:auto val="1"/>
        <c:lblAlgn val="ctr"/>
        <c:lblOffset val="100"/>
        <c:noMultiLvlLbl val="0"/>
      </c:catAx>
      <c:valAx>
        <c:axId val="48757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3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B76-BA82-4ADB-9328-33FD3465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22B-96A2-4AC3-BA68-4C56BAE5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72E-66CA-4D76-9E3C-6527883E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0A9-5660-47DC-8701-0609D3E5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25F-496C-4A86-AFBF-3B622161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FD2-AD13-4B8E-8B25-84381277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C15-1221-4F71-8540-E7F7C190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E64-F20B-49E6-B34C-00703E06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2CD-98AD-49C3-9A68-415D2662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AC2-936B-4E9F-80EC-4B95D965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88A-AD0F-4757-B0BA-1BA4F40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6CC-C318-4659-802D-430D3FA9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F1A2A-0F92-496F-B4BE-289E3405F9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