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73758"/>
        <c:axId val="50712105"/>
      </c:barChart>
      <c:catAx>
        <c:axId val="644737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12105"/>
        <c:crosses val="autoZero"/>
        <c:auto val="1"/>
        <c:lblAlgn val="ctr"/>
        <c:lblOffset val="100"/>
        <c:noMultiLvlLbl val="0"/>
      </c:catAx>
      <c:valAx>
        <c:axId val="50712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737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6BE-215D-4020-8564-7FDFA4BD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DB65-EDBF-47BB-8D32-4ACDE49E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680-6B36-410E-ABCE-4ECFA830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7B8-C9E8-4ED9-8149-17D1C5D6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FE9-BFC9-4881-9671-BE76402F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328-E8D1-4F4C-AB26-BA927AAF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6F2-DA52-4D4D-9271-92ECB29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43D-287C-457F-B534-25E3545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B39-B4D6-4C94-B3E1-58594348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AA8-3F71-42B0-B191-9D1EABD2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861-7576-486C-BB3A-C7D1ED3F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CFF4-33DB-42AD-BEB7-8D4B659E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C307A-4106-4EF5-9842-40F9903F2C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