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02536"/>
        <c:axId val="93948261"/>
      </c:barChart>
      <c:catAx>
        <c:axId val="25102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48261"/>
        <c:crosses val="autoZero"/>
        <c:auto val="1"/>
        <c:lblAlgn val="ctr"/>
        <c:lblOffset val="100"/>
        <c:noMultiLvlLbl val="0"/>
      </c:catAx>
      <c:valAx>
        <c:axId val="93948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2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A6E-A341-43FA-B32A-AD666F84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40B-C31B-4ECE-8C13-43499942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2C7-11B8-4BDA-BF79-47EB17BA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912-EC3F-4825-B76D-D69E724B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162-5A48-4163-B238-CC05D0B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A43-E9E5-459A-850D-AB115322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8A7-8EFD-4356-8799-FDB5629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769-1F84-4E40-A941-B95C41A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316-4A3C-4B4C-844B-65AEA4D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49D-64A4-4E1A-AE65-D3DA94DD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1AB-C7EC-4C9F-B0EC-9EB8AD5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325-EBAC-49B1-890B-3C98FD7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4AFC2-BD70-47AA-A661-4227B97522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