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77866"/>
        <c:axId val="95947279"/>
      </c:barChart>
      <c:catAx>
        <c:axId val="46677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7279"/>
        <c:crosses val="autoZero"/>
        <c:auto val="1"/>
        <c:lblAlgn val="ctr"/>
        <c:lblOffset val="100"/>
        <c:noMultiLvlLbl val="0"/>
      </c:catAx>
      <c:valAx>
        <c:axId val="95947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77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710-F087-48C0-8403-0369373C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CE6-65DF-4072-B3ED-4FADA3B6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B37-C774-44A1-8509-D8CD9E02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726-618F-4FF2-A633-264A1515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F34-0770-40A2-A45C-FBE4912E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194-2BB9-4950-ADDA-4359ECFD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B1B-EB63-409A-AFE4-5C09707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264-A6C7-4F5E-9822-D776781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B2A-0C85-4356-A74D-CD89D221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808-C171-4A5A-B2A7-97405AD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F3E-C3AD-4DFA-AD61-AAF5136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9B6-3B61-47B9-A877-CC1D7A7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DB02-47FD-4C58-948B-4353208283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