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98438"/>
        <c:axId val="48650783"/>
      </c:barChart>
      <c:catAx>
        <c:axId val="21298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50783"/>
        <c:crosses val="autoZero"/>
        <c:auto val="1"/>
        <c:lblAlgn val="ctr"/>
        <c:lblOffset val="100"/>
        <c:noMultiLvlLbl val="0"/>
      </c:catAx>
      <c:valAx>
        <c:axId val="48650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98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5BE-8533-45A3-B57E-581FFA70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B7C-387B-41B5-A0C8-180E292F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AC2-F4B2-4376-A13E-D6E5295A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EF1-65A2-4C8D-839A-0B5E872D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DFF-CCA9-4EAD-9308-34435665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A51-C96C-4438-B968-EA50A949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716-472A-4B3C-81DB-4548A76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5BB-2EAC-4D26-837B-3F9BFF52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B56-F317-4702-A6C7-E8C8EEAF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F9F-AA94-4B47-97EB-5E1B9D10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534-6E99-49F9-9F6C-A2AE5C7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E10-EEED-4040-88F3-CD8983E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4630B-D05C-4491-916B-75C96BAB1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