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908551"/>
        <c:axId val="36268802"/>
      </c:barChart>
      <c:catAx>
        <c:axId val="389085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268802"/>
        <c:crosses val="autoZero"/>
        <c:auto val="1"/>
        <c:lblAlgn val="ctr"/>
        <c:lblOffset val="100"/>
        <c:noMultiLvlLbl val="0"/>
      </c:catAx>
      <c:valAx>
        <c:axId val="362688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9085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3670-25F7-492F-8D37-00297326E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9CEF-AFF8-4611-A653-886E2E9D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C4AB-9F9D-4EFF-92CE-9B8DC7F55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8774-1848-488E-9FD4-F79BD29A6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2C78-21B6-4C96-A951-ADFA8B99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C361-48FF-4EA8-82BE-7442878A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DE1D-81B2-4647-BEEA-51C89147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126D-6AFD-44FB-BB7C-53FB52C4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FA49-B36A-4AF2-BB64-2D1A80F5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0409-4A48-46BB-8E31-6C9829BE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88EA-48CF-4D44-A23C-BA1C5005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9BEF-EF71-47B6-A271-027BFC27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C6BA20-E009-4533-BC25-5290BB01A6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