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04295"/>
        <c:axId val="6598040"/>
      </c:barChart>
      <c:catAx>
        <c:axId val="44404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8040"/>
        <c:crosses val="autoZero"/>
        <c:auto val="1"/>
        <c:lblAlgn val="ctr"/>
        <c:lblOffset val="100"/>
        <c:noMultiLvlLbl val="0"/>
      </c:catAx>
      <c:valAx>
        <c:axId val="6598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4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8AA-145D-41B9-8399-F9F5603F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532-5FE0-44F2-816A-F61021A8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F60-FCEC-427F-ADD9-72A7F97B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BDB-2CB5-4863-809E-9B40A7EC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7C6-8A56-4956-AC9C-E505239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2B1-3889-428A-8DF6-4945A694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47F-69E6-475A-801E-8225E72D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3E7-4625-4350-8A52-67017E6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229-E793-4D30-B76E-F92E7AB8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707-0B49-4E73-8E95-0FCF42FA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819-41AE-4127-A4BD-EC1EB804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448-1523-419B-B454-2C856CC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E3784-4583-4917-A44B-50D45573BB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