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58587"/>
        <c:axId val="16167537"/>
      </c:barChart>
      <c:catAx>
        <c:axId val="3858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67537"/>
        <c:crosses val="autoZero"/>
        <c:auto val="1"/>
        <c:lblAlgn val="ctr"/>
        <c:lblOffset val="100"/>
        <c:noMultiLvlLbl val="0"/>
      </c:catAx>
      <c:valAx>
        <c:axId val="16167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8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D8E-1769-480D-8E60-6587D4C2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514-54F1-4C59-BDF9-AC7232A1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378-A3D1-450A-ACF9-6D3C39C3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C77-FE66-4374-996D-C41C5D59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CD0-6FEC-44D7-9185-D4E4AF2B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C14-14D4-4AB9-97B2-4309CC03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5E0-9555-493E-8183-E7017500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0F8-B1F9-4809-BDFF-E38521A6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3A1-342B-41AC-B410-9A5280FE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F55-121F-4691-9A60-06D5FA1C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724-CDFB-45DA-8FD6-A7FF7F5F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DA5-9F9A-47CD-8DE3-5D65E497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145E0-AB24-4662-95F8-616D036854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