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71805"/>
        <c:axId val="58208194"/>
      </c:barChart>
      <c:catAx>
        <c:axId val="53571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08194"/>
        <c:crosses val="autoZero"/>
        <c:auto val="1"/>
        <c:lblAlgn val="ctr"/>
        <c:lblOffset val="100"/>
        <c:noMultiLvlLbl val="0"/>
      </c:catAx>
      <c:valAx>
        <c:axId val="58208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71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9E6-88A8-4964-93A1-0F9DAF1C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AAF-68F9-4779-885C-D893143E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827-851C-4A76-B77D-6E9DA9B2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F76-0B6E-4C01-AF1F-42BAD20C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DA7-DAED-40DC-9D5D-66F34CEB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696-BE4E-4F06-A753-37B54F10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543-EF89-41E1-B8B5-51C76D64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DBD-8F26-4695-A240-18C2B1F1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207-E378-4751-9D19-41585298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C2A-FFB4-41E0-95ED-3C16AF8A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9F5-D83C-40A4-B938-3001F7B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426-997E-4DF0-9E27-18689FE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E93A5-9F42-47E4-A5A6-945346267B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