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709"/>
        <c:axId val="72615491"/>
      </c:barChart>
      <c:catAx>
        <c:axId val="310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5491"/>
        <c:crosses val="autoZero"/>
        <c:auto val="1"/>
        <c:lblAlgn val="ctr"/>
        <c:lblOffset val="100"/>
        <c:noMultiLvlLbl val="0"/>
      </c:catAx>
      <c:valAx>
        <c:axId val="72615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C28-7077-43B9-8251-9DBFBBB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9E5-7538-4FB0-A61B-4487B30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34F-E4AB-4F4F-8BD5-A574224F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ECA-70AB-4E0B-A56F-9CA3E6E9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8DE-3C1B-4F4E-8DDD-71B85B2B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92C-3E4B-4AB8-ADD1-DD14AA4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908-6315-402C-8238-829D034C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5A1-C3FF-400B-8852-0E664DF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466-8435-44D8-9249-DBBE2EC9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354-2E9C-4DC5-868E-4A4E955B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9B6-A1D4-40CF-A371-F327CDB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316-ADC3-47F4-9424-F41A01D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E0C4-30C2-4FD4-A8D5-8753C3A57B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