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81986"/>
        <c:axId val="12471673"/>
      </c:barChart>
      <c:catAx>
        <c:axId val="45381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71673"/>
        <c:crosses val="autoZero"/>
        <c:auto val="1"/>
        <c:lblAlgn val="ctr"/>
        <c:lblOffset val="100"/>
        <c:noMultiLvlLbl val="0"/>
      </c:catAx>
      <c:valAx>
        <c:axId val="12471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81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467-A24F-4BCD-926C-261B1DBE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8F3-89C9-40C6-BC8C-E9BF00BD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167-BA38-4529-902E-3905C20F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DAA-1F32-4E0A-AF43-60736E5B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963-A028-461E-9973-61638850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0CA-927D-413A-89FD-070CAC8D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055-90C8-4BF2-A754-FA8DF724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6C0-A6A1-41BB-A520-1AFF7D56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1CF-946C-4304-A7F4-4782324E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63A-7D15-4EA0-A659-EDB95E3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E3F-3AA8-404B-97F6-30813E6C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B80-4E7D-4876-9157-D987CB6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6AF30-0623-43B7-B946-B07CFA5A8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